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610C-08AE-47EE-8B68-A75452EB60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629-76C7-49FD-B470-13821EF2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6CD-409A-4BBA-AACA-81F6F410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1FE-E74E-484B-AB68-31ED7737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433-F6CE-423A-A381-68611833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FE0-1F48-4D8E-B25A-F1B9CFFE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0EF-EB6C-453C-8ADA-B9F8FF1A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24B-2D7E-4DD0-84C0-E8E024E3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B91-9702-4356-8FC9-36DD2466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604-EBCF-4BE8-9896-30F52055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8AE-4604-487F-823E-E5378D03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1CE-16FE-46D6-9F40-43ADF156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AEE-7133-4066-BFAC-09520CB9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FB8E-6341-4AB5-ABD7-E498C17C3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5920" y="128520"/>
            <a:ext cx="6626160" cy="964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920" y="934704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2280" y="1495440"/>
            <a:ext cx="0" cy="7129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8280" y="93470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8280" y="956160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49960" y="934884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Game Na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30160" y="95630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esign Mode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16280" y="956160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ELECDOJO-DY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8880" y="93456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electronic</a:t>
            </a:r>
            <a:r>
              <a:rPr b="1" lang="en-US" sz="2400" spc="-1" strike="noStrike">
                <a:solidFill>
                  <a:srgbClr val="808080"/>
                </a:solidFill>
                <a:latin typeface="Century Gothic"/>
              </a:rPr>
              <a:t>do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92280" y="487440"/>
            <a:ext cx="2520720" cy="100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13000" y="487440"/>
            <a:ext cx="9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48280" y="4874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924280" y="1495440"/>
            <a:ext cx="122400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24280" y="2216160"/>
            <a:ext cx="647640" cy="22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571560" y="4447800"/>
            <a:ext cx="64908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21000" y="4737240"/>
            <a:ext cx="0" cy="50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860280" y="5240160"/>
            <a:ext cx="36036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60640" y="5528880"/>
            <a:ext cx="0" cy="309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2280" y="8624880"/>
            <a:ext cx="31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92640" y="6608880"/>
            <a:ext cx="230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ALSO: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an you include to overall width of the cabin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OVERAL WIDTH ………….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884088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92280" y="8768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60640" y="8768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00280" y="8913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6280" y="8624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49360" y="1496880"/>
            <a:ext cx="0" cy="712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6280" y="1496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20280" y="344520"/>
            <a:ext cx="252108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9360" y="12081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8640" y="2728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148280" y="27288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212640" y="27288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13000" y="344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221000" y="4888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221000" y="14968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92640" y="4888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924280" y="22161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149720" y="14968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68640" y="1568520"/>
            <a:ext cx="115236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708280" y="2216160"/>
            <a:ext cx="217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57720" y="4448160"/>
            <a:ext cx="217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81000" y="2289240"/>
            <a:ext cx="647640" cy="22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573000" y="423216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20640" y="452124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45000" y="430524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21000" y="5240160"/>
            <a:ext cx="14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21000" y="473724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15920" y="55292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221000" y="524016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860640" y="55288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933720" y="5312880"/>
            <a:ext cx="35892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92640" y="47372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9360" y="55292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4640" y="45212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52640" y="7048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84640" y="1285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21000" y="9208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0280" y="20001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9360" y="32241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9360" y="41608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76640" y="5457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21000" y="48816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7360" y="668196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16280" y="93470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ynamo Cab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5920" y="128520"/>
            <a:ext cx="6626160" cy="964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5920" y="934704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8280" y="93470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08280" y="956160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49960" y="934884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Game Na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30160" y="95630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esign Mode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16280" y="93470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ynamo Cab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6280" y="956160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ELECDOJO-DY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8880" y="93456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electronic</a:t>
            </a:r>
            <a:r>
              <a:rPr b="1" lang="en-US" sz="2400" spc="-1" strike="noStrike">
                <a:solidFill>
                  <a:srgbClr val="808080"/>
                </a:solidFill>
                <a:latin typeface="Century Gothic"/>
              </a:rPr>
              <a:t>do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510080" y="127944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933720" y="2000160"/>
            <a:ext cx="57636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5360" y="250344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413000" y="459252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37000" y="776160"/>
            <a:ext cx="132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3720" y="776160"/>
            <a:ext cx="57636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412640" y="5312880"/>
            <a:ext cx="647640" cy="505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412640" y="5816520"/>
            <a:ext cx="647640" cy="505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13000" y="632160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229360" y="459252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581360" y="5315040"/>
            <a:ext cx="64800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81360" y="5818320"/>
            <a:ext cx="64800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29360" y="632160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13000" y="4592520"/>
            <a:ext cx="381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13000" y="7040520"/>
            <a:ext cx="381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73360" y="1208160"/>
            <a:ext cx="23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his is the internal wood that the Control Panel sits ont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933360" y="56052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508640" y="1065240"/>
            <a:ext cx="712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05360" y="70488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08280" y="2000160"/>
            <a:ext cx="14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508280" y="12812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508280" y="200016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933720" y="25048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005360" y="207324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81360" y="128124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21000" y="7761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49720" y="23605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15685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13000" y="4376880"/>
            <a:ext cx="3816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68280" y="45925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13000" y="7257960"/>
            <a:ext cx="3816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37000" y="524196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60640" y="581652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413000" y="43052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29360" y="43052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125360" y="4592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125360" y="5313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013360" y="5168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365360" y="567360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412640" y="63212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2060640" y="581652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300640" y="6321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00640" y="7040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229360" y="7113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413000" y="7113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557360" y="588960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45000" y="6321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52640" y="41608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6280" y="48816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9720" y="52401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45000" y="65372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73360" y="61768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97360" y="725796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5920" y="128520"/>
            <a:ext cx="6626160" cy="964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5920" y="934704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8280" y="93470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8280" y="956160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49960" y="934884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Game Na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30160" y="95630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esign Mode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16280" y="93470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ynamo Cab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16280" y="956160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ELECDOJO-DY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8880" y="93456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electronic</a:t>
            </a:r>
            <a:r>
              <a:rPr b="1" lang="en-US" sz="2400" spc="-1" strike="noStrike">
                <a:solidFill>
                  <a:srgbClr val="808080"/>
                </a:solidFill>
                <a:latin typeface="Century Gothic"/>
              </a:rPr>
              <a:t>do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57360" y="776160"/>
            <a:ext cx="0" cy="806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797360" y="8840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41720" y="58165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57720" y="7257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28640" y="776160"/>
            <a:ext cx="0" cy="806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557360" y="8840880"/>
            <a:ext cx="7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557360" y="776160"/>
            <a:ext cx="7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28280" y="776160"/>
            <a:ext cx="302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628280" y="1784520"/>
            <a:ext cx="302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628280" y="2505240"/>
            <a:ext cx="302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28280" y="4808520"/>
            <a:ext cx="302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28280" y="5816520"/>
            <a:ext cx="302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628280" y="8840880"/>
            <a:ext cx="302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53000" y="776160"/>
            <a:ext cx="0" cy="806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776160"/>
            <a:ext cx="0" cy="806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653000" y="8840880"/>
            <a:ext cx="7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653000" y="776160"/>
            <a:ext cx="7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797360" y="5816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41720" y="480852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797360" y="4808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41720" y="250524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797360" y="2505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41720" y="17845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797360" y="77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797360" y="1784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41720" y="7761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81360" y="488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628640" y="488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28640" y="6318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13360" y="20732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13360" y="35132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84640" y="51688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13360" y="12812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2640" y="4158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………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19:52:14Z</dcterms:created>
  <dc:creator> Jason Reynolds</dc:creator>
  <dc:description/>
  <dc:language>en-US</dc:language>
  <cp:lastModifiedBy>Electronic Dojo</cp:lastModifiedBy>
  <dcterms:modified xsi:type="dcterms:W3CDTF">2006-05-21T19:22:23Z</dcterms:modified>
  <cp:revision>17</cp:revision>
  <dc:subject/>
  <dc:title>Slide 1</dc:title>
</cp:coreProperties>
</file>